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3.wmf" ContentType="image/x-wmf"/>
  <Override PartName="/ppt/media/image5.png" ContentType="image/png"/>
  <Override PartName="/ppt/media/image33.wmf" ContentType="image/x-wmf"/>
  <Override PartName="/ppt/media/image34.wmf" ContentType="image/x-wmf"/>
  <Override PartName="/ppt/media/image14.png" ContentType="image/png"/>
  <Override PartName="/ppt/media/image35.wmf" ContentType="image/x-wmf"/>
  <Override PartName="/ppt/media/image36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1.jpeg" ContentType="image/jpeg"/>
  <Override PartName="/ppt/media/image10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12.png" ContentType="image/png"/>
  <Override PartName="/ppt/media/image44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8.png" ContentType="image/png"/>
  <Override PartName="/ppt/media/image6.png" ContentType="image/png"/>
  <Override PartName="/ppt/media/image4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16"/>
          </p:nvPr>
        </p:nvSpPr>
        <p:spPr>
          <a:xfrm>
            <a:off x="384768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17"/>
          </p:nvPr>
        </p:nvSpPr>
        <p:spPr>
          <a:xfrm>
            <a:off x="-360" y="9427680"/>
            <a:ext cx="29480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18"/>
          </p:nvPr>
        </p:nvSpPr>
        <p:spPr>
          <a:xfrm>
            <a:off x="3847680" y="9427680"/>
            <a:ext cx="29480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8BB498D-7CE5-4A26-945D-DD83650ADE8B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50760" y="71424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0182-C49E-4E2D-A0A1-BC4FBEC30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150C-5C4E-470A-8DE8-A4E36539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81B4-5698-4BFC-AD42-1D9450F7F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402C-9D95-40A2-AC23-AB534B9F3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4072-FEF9-4AAB-BCEC-58FE2E080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9244-3575-470C-A1F8-989B887A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0D77-2DC3-4B41-9651-6B9C0178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8AD7-A23D-4B55-B9F4-1007E6F4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4284-5FBB-416D-B4AF-9AB5CD73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61C4-2A6D-432A-B6F6-56555EA6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9973-85D2-46F5-82BF-E7E15115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8393-EEFB-4A8C-8DFA-516C850E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0368-2644-4028-8517-17297563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EE58-DEAD-4E73-A984-E952CA22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2005-E159-4B4E-94E7-FD31DC61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A162-20CF-4FF6-9E69-F97DC6882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4424-029D-4D30-BB26-1F11C4C60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2B57B-E011-4683-A16D-84B638731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DCE92-28DA-4196-9033-122255D1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87FBA-EE1B-407C-AA9E-1784B6E3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53824-ADEC-409B-9FF6-0EDA9155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1D12C-CB9E-40DF-AA80-D924DA9C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1E69-DCE1-4A9E-A2A3-A252EBC8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D322E-123C-4853-88E0-78F93589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3EA63-5752-4D25-B7CC-37E36F09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EAA07-5C44-4E29-B764-2B97FA48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1D5BA-C0EE-43AD-B5CA-B5AB546C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6B791-3F87-4672-B356-6A4E923A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F63F5-52EE-487E-B1FB-B52E4B0EE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E9AFF-4AE3-4D54-9E5C-8791BF55E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BB94E-928A-4C07-827F-FB0065F76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1BA12-E7CB-444A-849B-475BC051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F7544-D4E5-4EA4-8D19-9A21C5F3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CB3A-3602-4BCF-8BB7-D02F3755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B0B77-CD24-4E9E-9A38-855089EF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D70CB-AB55-40B8-B6F1-EA48F0D0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01E59-3052-46E5-A469-F1104BD3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5EB9A-E98D-47D1-BCB2-7A8530C6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40BD6-1D3A-4420-B51C-71CD1942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97095-B98B-485D-800C-8DFE8780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421FF-B2F7-43D3-B2F8-8A9C943B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8B1C2-8956-471C-BB5E-531B4857C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7ABC5-07EE-4EBA-AAB4-0F96DE956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1A476-6530-4751-A30D-B8BFF9A0F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306D-96E0-4A61-992F-8EF9FA7D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7D8A9-C0E8-4913-87C2-66D0B743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AE5AA-6D67-428A-A290-4631DD33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B84B4-E20A-45F6-9252-BF834E22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61A8C-A655-4604-9E10-D50381A7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BFA58-BF06-4482-B31C-84932509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573A7-BA35-45A7-8F21-25D6B7BD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BC3B4-41A8-4322-8A1E-628C6123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45711-15E5-4A89-A5CB-CECB9432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71D70-A2BC-4803-94A0-7E3EB7AF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D1DCA-970C-4B1F-87E7-CC0A7AD07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FD61-1BAC-4CF7-860C-E7193ADC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06E2F-4028-4DB4-ABD0-E837B9FAA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656C-DB7E-4355-A9EA-0AE3CFD2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1CAC-D64B-4412-9E60-F159A9F4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1CCD-167E-4432-A9F7-43696338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038B-DC94-42BF-800B-B4F95C4DBB1E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群組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手繪多邊形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手繪多邊形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手繪多邊形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手繪多邊形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直線接點 19" descr=""/>
            <p:cNvPicPr/>
            <p:nvPr/>
          </p:nvPicPr>
          <p:blipFill>
            <a:blip r:embed="rId4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100</a:t>
            </a:r>
            <a:r>
              <a:rPr b="0" lang="zh-TW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EF66-C5E2-463F-B878-C5A3835AE224}" type="slidenum">
              <a:rPr b="0" lang="zh-TW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＞形箭號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＞形箭號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17B7-6D28-40DF-908E-F29758727DF7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4AD8-A189-4FC7-B3F2-ADABD300FDAC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手繪多邊形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手繪多邊形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直角三角形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89" name="直角三角形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直線接點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2" name="＞形箭號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＞形箭號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18F3-205C-4F00-9086-FF8193ABB9B8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6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371600" y="4076280"/>
            <a:ext cx="640080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衛生署統計室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01.05.2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9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76920"/>
          </a:xfrm>
          <a:prstGeom prst="rect">
            <a:avLst/>
          </a:prstGeom>
          <a:ln w="0">
            <a:noFill/>
          </a:ln>
        </p:spPr>
      </p:pic>
      <p:sp>
        <p:nvSpPr>
          <p:cNvPr id="27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5D7E-CF53-468C-A4EC-3FC77705D2E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AC12-199F-42D8-A96F-6B61A2A62D8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0" descr=""/>
          <p:cNvPicPr/>
          <p:nvPr/>
        </p:nvPicPr>
        <p:blipFill>
          <a:blip r:embed="rId1"/>
          <a:stretch/>
        </p:blipFill>
        <p:spPr>
          <a:xfrm>
            <a:off x="0" y="836640"/>
            <a:ext cx="8817120" cy="5695920"/>
          </a:xfrm>
          <a:prstGeom prst="rect">
            <a:avLst/>
          </a:prstGeom>
          <a:ln w="0">
            <a:noFill/>
          </a:ln>
        </p:spPr>
      </p:pic>
      <p:sp>
        <p:nvSpPr>
          <p:cNvPr id="27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7177-B882-4F61-B4D4-8619ADF90C3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2" descr=""/>
          <p:cNvPicPr/>
          <p:nvPr/>
        </p:nvPicPr>
        <p:blipFill>
          <a:blip r:embed="rId1"/>
          <a:stretch/>
        </p:blipFill>
        <p:spPr>
          <a:xfrm>
            <a:off x="0" y="907920"/>
            <a:ext cx="8848800" cy="5334120"/>
          </a:xfrm>
          <a:prstGeom prst="rect">
            <a:avLst/>
          </a:prstGeom>
          <a:ln w="0">
            <a:noFill/>
          </a:ln>
        </p:spPr>
      </p:pic>
      <p:sp>
        <p:nvSpPr>
          <p:cNvPr id="276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D260-EB30-4CFE-8B40-1BC520BE1F5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9A4F-0DCE-4688-8D2C-71ED39C9C19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B846-1678-4C5A-BD57-2F4DF5C70A5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9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70436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18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327640"/>
          </a:xfrm>
          <a:prstGeom prst="rect">
            <a:avLst/>
          </a:prstGeom>
          <a:ln w="0">
            <a:noFill/>
          </a:ln>
        </p:spPr>
      </p:pic>
      <p:sp>
        <p:nvSpPr>
          <p:cNvPr id="28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D142-E95E-490B-A161-AEA945A8687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C218-690E-499F-987F-959EC4AEFC2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8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369040"/>
          </a:xfrm>
          <a:prstGeom prst="rect">
            <a:avLst/>
          </a:prstGeom>
          <a:ln w="0">
            <a:noFill/>
          </a:ln>
        </p:spPr>
      </p:pic>
      <p:sp>
        <p:nvSpPr>
          <p:cNvPr id="28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A73E-87D4-4E32-B20F-3D839AB42FA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7507-75CF-45E3-80A2-AB3AF1CACBC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9" descr=""/>
          <p:cNvPicPr/>
          <p:nvPr/>
        </p:nvPicPr>
        <p:blipFill>
          <a:blip r:embed="rId1"/>
          <a:stretch/>
        </p:blipFill>
        <p:spPr>
          <a:xfrm>
            <a:off x="0" y="549360"/>
            <a:ext cx="8848800" cy="5705280"/>
          </a:xfrm>
          <a:prstGeom prst="rect">
            <a:avLst/>
          </a:prstGeom>
          <a:ln w="0">
            <a:noFill/>
          </a:ln>
        </p:spPr>
      </p:pic>
      <p:sp>
        <p:nvSpPr>
          <p:cNvPr id="287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A002-57EB-4DB1-B278-E9C10F3C85E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A26A-6176-4628-BE8D-A915B8A158D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10" descr=""/>
          <p:cNvPicPr/>
          <p:nvPr/>
        </p:nvPicPr>
        <p:blipFill>
          <a:blip r:embed="rId1"/>
          <a:stretch/>
        </p:blipFill>
        <p:spPr>
          <a:xfrm>
            <a:off x="295200" y="620640"/>
            <a:ext cx="8848800" cy="5705640"/>
          </a:xfrm>
          <a:prstGeom prst="rect">
            <a:avLst/>
          </a:prstGeom>
          <a:ln w="0">
            <a:noFill/>
          </a:ln>
        </p:spPr>
      </p:pic>
      <p:sp>
        <p:nvSpPr>
          <p:cNvPr id="290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86A5-1698-442D-8024-AB3120C6A87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1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918040"/>
          </a:xfrm>
          <a:prstGeom prst="rect">
            <a:avLst/>
          </a:prstGeom>
          <a:ln w="0">
            <a:noFill/>
          </a:ln>
        </p:spPr>
      </p:pic>
      <p:sp>
        <p:nvSpPr>
          <p:cNvPr id="29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B8C5-8531-4476-A484-1A9D9DF802B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A580-0BBD-4488-8609-E1510919E8D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1" descr=""/>
          <p:cNvPicPr/>
          <p:nvPr/>
        </p:nvPicPr>
        <p:blipFill>
          <a:blip r:embed="rId1"/>
          <a:stretch/>
        </p:blipFill>
        <p:spPr>
          <a:xfrm>
            <a:off x="0" y="549360"/>
            <a:ext cx="8848800" cy="5810040"/>
          </a:xfrm>
          <a:prstGeom prst="rect">
            <a:avLst/>
          </a:prstGeom>
          <a:ln w="0">
            <a:noFill/>
          </a:ln>
        </p:spPr>
      </p:pic>
      <p:sp>
        <p:nvSpPr>
          <p:cNvPr id="297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8125-CBD6-4016-85F4-400CDE74BC2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C216-5327-42B1-B5C0-29B2A6606F9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0" y="620640"/>
            <a:ext cx="8388360" cy="5243760"/>
          </a:xfrm>
          <a:prstGeom prst="rect">
            <a:avLst/>
          </a:prstGeom>
          <a:ln w="0">
            <a:noFill/>
          </a:ln>
        </p:spPr>
      </p:pic>
      <p:pic>
        <p:nvPicPr>
          <p:cNvPr id="245" name="Rectangle 6" descr=""/>
          <p:cNvPicPr/>
          <p:nvPr/>
        </p:nvPicPr>
        <p:blipFill>
          <a:blip r:embed="rId2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"/>
          <p:cNvPicPr/>
          <p:nvPr/>
        </p:nvPicPr>
        <p:blipFill>
          <a:blip r:embed="rId3"/>
          <a:stretch/>
        </p:blipFill>
        <p:spPr>
          <a:xfrm>
            <a:off x="2411280" y="5445000"/>
            <a:ext cx="4662720" cy="797040"/>
          </a:xfrm>
          <a:prstGeom prst="rect">
            <a:avLst/>
          </a:prstGeom>
          <a:ln w="0">
            <a:noFill/>
          </a:ln>
        </p:spPr>
      </p:pic>
      <p:sp>
        <p:nvSpPr>
          <p:cNvPr id="24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61A1-90BE-44DC-936B-78E7435EFAD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12" descr=""/>
          <p:cNvPicPr/>
          <p:nvPr/>
        </p:nvPicPr>
        <p:blipFill>
          <a:blip r:embed="rId1"/>
          <a:stretch/>
        </p:blipFill>
        <p:spPr>
          <a:xfrm>
            <a:off x="147600" y="579600"/>
            <a:ext cx="8848800" cy="5705280"/>
          </a:xfrm>
          <a:prstGeom prst="rect">
            <a:avLst/>
          </a:prstGeom>
          <a:ln w="0">
            <a:noFill/>
          </a:ln>
        </p:spPr>
      </p:pic>
      <p:sp>
        <p:nvSpPr>
          <p:cNvPr id="300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6657-50A7-440B-AE0F-D7053BD43C2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71C7-8C61-40CC-8154-4A0F5D18A84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2F3D-F771-44DB-A734-E31441D89C8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8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207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AA76-3116-433C-B079-2DF58C794DA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56944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A982-6FFB-4FE7-9EF5-B44D58F3680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0" descr=""/>
          <p:cNvPicPr/>
          <p:nvPr/>
        </p:nvPicPr>
        <p:blipFill>
          <a:blip r:embed="rId1"/>
          <a:stretch/>
        </p:blipFill>
        <p:spPr>
          <a:xfrm>
            <a:off x="147600" y="736560"/>
            <a:ext cx="8848800" cy="53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5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41840"/>
          </a:xfrm>
          <a:prstGeom prst="rect">
            <a:avLst/>
          </a:prstGeom>
          <a:ln w="0">
            <a:noFill/>
          </a:ln>
        </p:spPr>
      </p:pic>
      <p:sp>
        <p:nvSpPr>
          <p:cNvPr id="30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9FB9-B492-469A-816E-0E4E4B5D8D3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14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496000" cy="5597640"/>
          </a:xfrm>
          <a:prstGeom prst="rect">
            <a:avLst/>
          </a:prstGeom>
          <a:ln w="0">
            <a:noFill/>
          </a:ln>
        </p:spPr>
      </p:pic>
      <p:sp>
        <p:nvSpPr>
          <p:cNvPr id="31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48FF-A99C-48D7-96D7-3C433918FFB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9229-D49C-4C7A-B798-303AF703594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3" descr=""/>
          <p:cNvPicPr/>
          <p:nvPr/>
        </p:nvPicPr>
        <p:blipFill>
          <a:blip r:embed="rId1"/>
          <a:stretch/>
        </p:blipFill>
        <p:spPr>
          <a:xfrm>
            <a:off x="0" y="620640"/>
            <a:ext cx="8848800" cy="5629320"/>
          </a:xfrm>
          <a:prstGeom prst="rect">
            <a:avLst/>
          </a:prstGeom>
          <a:ln w="0">
            <a:noFill/>
          </a:ln>
        </p:spPr>
      </p:pic>
      <p:sp>
        <p:nvSpPr>
          <p:cNvPr id="31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C362-260E-4745-832A-D0D0562DA74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1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488360" cy="6105600"/>
          </a:xfrm>
          <a:prstGeom prst="rect">
            <a:avLst/>
          </a:prstGeom>
          <a:ln w="0">
            <a:noFill/>
          </a:ln>
        </p:spPr>
      </p:pic>
      <p:sp>
        <p:nvSpPr>
          <p:cNvPr id="316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5A20-0D38-42DE-A7E6-3054AAB8FC7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DBE0-70B3-4597-A020-2E7D13D5269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8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35344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8CF6-8B04-46AD-9931-9E8613EAAB2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1B53-6AF9-4E0E-8954-2C991BC5ED0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0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9200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Rectangle 4" descr=""/>
          <p:cNvPicPr/>
          <p:nvPr/>
        </p:nvPicPr>
        <p:blipFill>
          <a:blip r:embed="rId1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"/>
          <p:cNvPicPr/>
          <p:nvPr/>
        </p:nvPicPr>
        <p:blipFill>
          <a:blip r:embed="rId2"/>
          <a:stretch/>
        </p:blipFill>
        <p:spPr>
          <a:xfrm>
            <a:off x="0" y="620640"/>
            <a:ext cx="8388360" cy="524376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6"/>
          <p:cNvSpPr/>
          <p:nvPr/>
        </p:nvSpPr>
        <p:spPr>
          <a:xfrm>
            <a:off x="5484960" y="210960"/>
            <a:ext cx="215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慢性疾病死因占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6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10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年來事故傷害死因減幅最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BE8F-2A1F-49B1-BBFE-078896546B5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9499-7350-4284-95E1-00A5C633838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9" descr=""/>
          <p:cNvPicPr/>
          <p:nvPr/>
        </p:nvPicPr>
        <p:blipFill>
          <a:blip r:embed="rId1"/>
          <a:stretch/>
        </p:blipFill>
        <p:spPr>
          <a:xfrm>
            <a:off x="0" y="765000"/>
            <a:ext cx="8848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74E8-E05C-4D44-B8BB-AA4B857EC05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9" descr=""/>
          <p:cNvPicPr/>
          <p:nvPr/>
        </p:nvPicPr>
        <p:blipFill>
          <a:blip r:embed="rId1"/>
          <a:stretch/>
        </p:blipFill>
        <p:spPr>
          <a:xfrm>
            <a:off x="147600" y="727200"/>
            <a:ext cx="8848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12" descr=""/>
          <p:cNvPicPr/>
          <p:nvPr/>
        </p:nvPicPr>
        <p:blipFill>
          <a:blip r:embed="rId1"/>
          <a:stretch/>
        </p:blipFill>
        <p:spPr>
          <a:xfrm>
            <a:off x="195120" y="617400"/>
            <a:ext cx="8753760" cy="5629320"/>
          </a:xfrm>
          <a:prstGeom prst="rect">
            <a:avLst/>
          </a:prstGeom>
          <a:ln w="0">
            <a:noFill/>
          </a:ln>
        </p:spPr>
      </p:pic>
      <p:sp>
        <p:nvSpPr>
          <p:cNvPr id="32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113E-C160-4CB9-87A0-47C5B33B457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AFC7-A446-4F33-9E40-EA378C65706A}" type="slidenum">
              <a:rPr b="0" lang="zh-TW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WordArt 3"/>
          <p:cNvSpPr txBox="1"/>
          <p:nvPr/>
        </p:nvSpPr>
        <p:spPr>
          <a:xfrm>
            <a:off x="2700360" y="1628640"/>
            <a:ext cx="4248000" cy="24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簡報完畢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敬請指教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"/>
          <p:cNvPicPr/>
          <p:nvPr/>
        </p:nvPicPr>
        <p:blipFill>
          <a:blip r:embed="rId2"/>
          <a:stretch/>
        </p:blipFill>
        <p:spPr>
          <a:xfrm>
            <a:off x="0" y="1582560"/>
            <a:ext cx="9144000" cy="4156200"/>
          </a:xfrm>
          <a:prstGeom prst="rect">
            <a:avLst/>
          </a:prstGeom>
          <a:ln w="0">
            <a:noFill/>
          </a:ln>
        </p:spPr>
      </p:pic>
      <p:sp>
        <p:nvSpPr>
          <p:cNvPr id="254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56A2-592C-4F9C-B8F1-EE6129EDA54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"/>
          <p:cNvPicPr/>
          <p:nvPr/>
        </p:nvPicPr>
        <p:blipFill>
          <a:blip r:embed="rId2"/>
          <a:stretch/>
        </p:blipFill>
        <p:spPr>
          <a:xfrm>
            <a:off x="0" y="1582560"/>
            <a:ext cx="9144000" cy="4156200"/>
          </a:xfrm>
          <a:prstGeom prst="rect">
            <a:avLst/>
          </a:prstGeom>
          <a:ln w="0">
            <a:noFill/>
          </a:ln>
        </p:spPr>
      </p:pic>
      <p:sp>
        <p:nvSpPr>
          <p:cNvPr id="25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79FA-AFB6-4352-9AF8-D98F4FC5FAC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Rectangle 4" descr=""/>
          <p:cNvPicPr/>
          <p:nvPr/>
        </p:nvPicPr>
        <p:blipFill>
          <a:blip r:embed="rId1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"/>
          <p:cNvPicPr/>
          <p:nvPr/>
        </p:nvPicPr>
        <p:blipFill>
          <a:blip r:embed="rId2"/>
          <a:stretch/>
        </p:blipFill>
        <p:spPr>
          <a:xfrm>
            <a:off x="612720" y="1503360"/>
            <a:ext cx="7916760" cy="3857760"/>
          </a:xfrm>
          <a:prstGeom prst="rect">
            <a:avLst/>
          </a:prstGeom>
          <a:ln w="0">
            <a:noFill/>
          </a:ln>
        </p:spPr>
      </p:pic>
      <p:sp>
        <p:nvSpPr>
          <p:cNvPr id="260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9C40-56E2-4D27-855E-091439BFD4B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"/>
          <p:cNvPicPr/>
          <p:nvPr/>
        </p:nvPicPr>
        <p:blipFill>
          <a:blip r:embed="rId2"/>
          <a:stretch/>
        </p:blipFill>
        <p:spPr>
          <a:xfrm>
            <a:off x="612720" y="2106720"/>
            <a:ext cx="7916760" cy="3051000"/>
          </a:xfrm>
          <a:prstGeom prst="rect">
            <a:avLst/>
          </a:prstGeom>
          <a:ln w="0">
            <a:noFill/>
          </a:ln>
        </p:spPr>
      </p:pic>
      <p:sp>
        <p:nvSpPr>
          <p:cNvPr id="263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DDBA-D63D-47B8-B452-CEFD1FCE492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5EDB-1894-4F03-ABAE-6026A078A07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CE83-258D-4FEB-8943-CA7A40A7910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7" descr=""/>
          <p:cNvPicPr/>
          <p:nvPr/>
        </p:nvPicPr>
        <p:blipFill>
          <a:blip r:embed="rId1"/>
          <a:stretch/>
        </p:blipFill>
        <p:spPr>
          <a:xfrm>
            <a:off x="147600" y="687240"/>
            <a:ext cx="884880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FB27-97B4-4CDF-A924-BD76743DE6C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9"/>
          <p:cNvSpPr/>
          <p:nvPr/>
        </p:nvSpPr>
        <p:spPr>
          <a:xfrm>
            <a:off x="1887480" y="426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1"/>
          <a:stretch/>
        </p:blipFill>
        <p:spPr>
          <a:xfrm>
            <a:off x="152280" y="741240"/>
            <a:ext cx="88394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05:22:00Z</dcterms:created>
  <dc:creator>行政院衛生署</dc:creator>
  <dc:description> </dc:description>
  <cp:keywords>民國100年死因記者會簡報</cp:keywords>
  <dc:language>en-US</dc:language>
  <cp:lastModifiedBy>ASUS</cp:lastModifiedBy>
  <dcterms:modified xsi:type="dcterms:W3CDTF">2012-05-23T20:01:33Z</dcterms:modified>
  <cp:revision>463</cp:revision>
  <dc:subject>衛生署中英文網站</dc:subject>
  <dc:title>民國100年死因記者會簡報</dc:title>
</cp:coreProperties>
</file>